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099300" cy="10231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99200" cy="1023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099200" cy="1022976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29760"/>
              <a:gd name="textAreaBottom" fmla="*/ 10229400 h 10229760"/>
            </a:gdLst>
            <a:ahLst/>
            <a:rect l="textAreaLeft" t="textAreaTop" r="textAreaRight" b="textAreaBottom"/>
            <a:pathLst>
              <a:path w="21600" h="31125">
                <a:moveTo>
                  <a:pt x="5" y="0"/>
                </a:moveTo>
                <a:arcTo wR="5" hR="5" stAng="16200000" swAng="-5400000"/>
                <a:lnTo>
                  <a:pt x="0" y="31120"/>
                </a:lnTo>
                <a:arcTo wR="5" hR="5" stAng="10800000" swAng="-5400000"/>
                <a:lnTo>
                  <a:pt x="21595" y="3112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2"/>
          <p:cNvSpPr/>
          <p:nvPr/>
        </p:nvSpPr>
        <p:spPr>
          <a:xfrm>
            <a:off x="0" y="0"/>
            <a:ext cx="7099200" cy="1022976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29760"/>
              <a:gd name="textAreaBottom" fmla="*/ 10229400 h 10229760"/>
            </a:gdLst>
            <a:ahLst/>
            <a:rect l="textAreaLeft" t="textAreaTop" r="textAreaRight" b="textAreaBottom"/>
            <a:pathLst>
              <a:path w="21600" h="31125">
                <a:moveTo>
                  <a:pt x="5" y="0"/>
                </a:moveTo>
                <a:arcTo wR="5" hR="5" stAng="16200000" swAng="-5400000"/>
                <a:lnTo>
                  <a:pt x="0" y="31120"/>
                </a:lnTo>
                <a:arcTo wR="5" hR="5" stAng="10800000" swAng="-5400000"/>
                <a:lnTo>
                  <a:pt x="21595" y="3112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3"/>
          <p:cNvSpPr/>
          <p:nvPr/>
        </p:nvSpPr>
        <p:spPr>
          <a:xfrm>
            <a:off x="0" y="0"/>
            <a:ext cx="7099200" cy="1022976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29760"/>
              <a:gd name="textAreaBottom" fmla="*/ 10229400 h 10229760"/>
            </a:gdLst>
            <a:ahLst/>
            <a:rect l="textAreaLeft" t="textAreaTop" r="textAreaRight" b="textAreaBottom"/>
            <a:pathLst>
              <a:path w="21600" h="31125">
                <a:moveTo>
                  <a:pt x="5" y="0"/>
                </a:moveTo>
                <a:arcTo wR="5" hR="5" stAng="16200000" swAng="-5400000"/>
                <a:lnTo>
                  <a:pt x="0" y="31120"/>
                </a:lnTo>
                <a:arcTo wR="5" hR="5" stAng="10800000" swAng="-5400000"/>
                <a:lnTo>
                  <a:pt x="21595" y="3112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0" y="0"/>
            <a:ext cx="7099200" cy="1022976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29760"/>
              <a:gd name="textAreaBottom" fmla="*/ 10229400 h 10229760"/>
            </a:gdLst>
            <a:ahLst/>
            <a:rect l="textAreaLeft" t="textAreaTop" r="textAreaRight" b="textAreaBottom"/>
            <a:pathLst>
              <a:path w="21600" h="31125">
                <a:moveTo>
                  <a:pt x="5" y="0"/>
                </a:moveTo>
                <a:arcTo wR="5" hR="5" stAng="16200000" swAng="-5400000"/>
                <a:lnTo>
                  <a:pt x="0" y="31120"/>
                </a:lnTo>
                <a:arcTo wR="5" hR="5" stAng="10800000" swAng="-5400000"/>
                <a:lnTo>
                  <a:pt x="21595" y="3112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5"/>
          <p:cNvSpPr/>
          <p:nvPr/>
        </p:nvSpPr>
        <p:spPr>
          <a:xfrm>
            <a:off x="0" y="0"/>
            <a:ext cx="7099200" cy="1022976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29760"/>
              <a:gd name="textAreaBottom" fmla="*/ 10229400 h 10229760"/>
            </a:gdLst>
            <a:ahLst/>
            <a:rect l="textAreaLeft" t="textAreaTop" r="textAreaRight" b="textAreaBottom"/>
            <a:pathLst>
              <a:path w="21600" h="31125">
                <a:moveTo>
                  <a:pt x="5" y="0"/>
                </a:moveTo>
                <a:arcTo wR="5" hR="5" stAng="16200000" swAng="-5400000"/>
                <a:lnTo>
                  <a:pt x="0" y="31120"/>
                </a:lnTo>
                <a:arcTo wR="5" hR="5" stAng="10800000" swAng="-5400000"/>
                <a:lnTo>
                  <a:pt x="21595" y="3112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0" y="0"/>
            <a:ext cx="7099200" cy="1022976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29760"/>
              <a:gd name="textAreaBottom" fmla="*/ 10229400 h 10229760"/>
            </a:gdLst>
            <a:ahLst/>
            <a:rect l="textAreaLeft" t="textAreaTop" r="textAreaRight" b="textAreaBottom"/>
            <a:pathLst>
              <a:path w="21600" h="31125">
                <a:moveTo>
                  <a:pt x="5" y="0"/>
                </a:moveTo>
                <a:arcTo wR="5" hR="5" stAng="16200000" swAng="-5400000"/>
                <a:lnTo>
                  <a:pt x="0" y="31120"/>
                </a:lnTo>
                <a:arcTo wR="5" hR="5" stAng="10800000" swAng="-5400000"/>
                <a:lnTo>
                  <a:pt x="21595" y="3112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7"/>
          <p:cNvSpPr/>
          <p:nvPr/>
        </p:nvSpPr>
        <p:spPr>
          <a:xfrm>
            <a:off x="0" y="0"/>
            <a:ext cx="7099200" cy="1022976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29760"/>
              <a:gd name="textAreaBottom" fmla="*/ 10229400 h 10229760"/>
            </a:gdLst>
            <a:ahLst/>
            <a:rect l="textAreaLeft" t="textAreaTop" r="textAreaRight" b="textAreaBottom"/>
            <a:pathLst>
              <a:path w="21600" h="31125">
                <a:moveTo>
                  <a:pt x="5" y="0"/>
                </a:moveTo>
                <a:arcTo wR="5" hR="5" stAng="16200000" swAng="-5400000"/>
                <a:lnTo>
                  <a:pt x="0" y="31120"/>
                </a:lnTo>
                <a:arcTo wR="5" hR="5" stAng="10800000" swAng="-5400000"/>
                <a:lnTo>
                  <a:pt x="21595" y="3112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8"/>
          <p:cNvSpPr/>
          <p:nvPr/>
        </p:nvSpPr>
        <p:spPr>
          <a:xfrm>
            <a:off x="0" y="0"/>
            <a:ext cx="7099200" cy="1022976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29760"/>
              <a:gd name="textAreaBottom" fmla="*/ 10229400 h 10229760"/>
            </a:gdLst>
            <a:ahLst/>
            <a:rect l="textAreaLeft" t="textAreaTop" r="textAreaRight" b="textAreaBottom"/>
            <a:pathLst>
              <a:path w="21600" h="31125">
                <a:moveTo>
                  <a:pt x="5" y="0"/>
                </a:moveTo>
                <a:arcTo wR="5" hR="5" stAng="16200000" swAng="-5400000"/>
                <a:lnTo>
                  <a:pt x="0" y="31120"/>
                </a:lnTo>
                <a:arcTo wR="5" hR="5" stAng="10800000" swAng="-5400000"/>
                <a:lnTo>
                  <a:pt x="21595" y="3112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9"/>
          <p:cNvSpPr/>
          <p:nvPr/>
        </p:nvSpPr>
        <p:spPr>
          <a:xfrm>
            <a:off x="0" y="0"/>
            <a:ext cx="7099200" cy="1022976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29760"/>
              <a:gd name="textAreaBottom" fmla="*/ 10229400 h 10229760"/>
            </a:gdLst>
            <a:ahLst/>
            <a:rect l="textAreaLeft" t="textAreaTop" r="textAreaRight" b="textAreaBottom"/>
            <a:pathLst>
              <a:path w="21600" h="31125">
                <a:moveTo>
                  <a:pt x="5" y="0"/>
                </a:moveTo>
                <a:arcTo wR="5" hR="5" stAng="16200000" swAng="-5400000"/>
                <a:lnTo>
                  <a:pt x="0" y="31120"/>
                </a:lnTo>
                <a:arcTo wR="5" hR="5" stAng="10800000" swAng="-5400000"/>
                <a:lnTo>
                  <a:pt x="21595" y="3112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0" y="0"/>
            <a:ext cx="7099200" cy="1022976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29760"/>
              <a:gd name="textAreaBottom" fmla="*/ 10229400 h 10229760"/>
            </a:gdLst>
            <a:ahLst/>
            <a:rect l="textAreaLeft" t="textAreaTop" r="textAreaRight" b="textAreaBottom"/>
            <a:pathLst>
              <a:path w="21600" h="31125">
                <a:moveTo>
                  <a:pt x="5" y="0"/>
                </a:moveTo>
                <a:arcTo wR="5" hR="5" stAng="16200000" swAng="-5400000"/>
                <a:lnTo>
                  <a:pt x="0" y="31120"/>
                </a:lnTo>
                <a:arcTo wR="5" hR="5" stAng="10800000" swAng="-5400000"/>
                <a:lnTo>
                  <a:pt x="21595" y="3112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0720" cy="4953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4021200" y="0"/>
            <a:ext cx="3062160" cy="4953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461880"/>
                <a:tab algn="l" pos="927000"/>
                <a:tab algn="l" pos="139212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7880"/>
                <a:tab algn="l" pos="4653000"/>
                <a:tab algn="l" pos="5119560"/>
                <a:tab algn="l" pos="5584680"/>
                <a:tab algn="l" pos="6049800"/>
                <a:tab algn="l" pos="6515280"/>
                <a:tab algn="l" pos="6980400"/>
                <a:tab algn="l" pos="7445520"/>
                <a:tab algn="l" pos="7910640"/>
                <a:tab algn="l" pos="8375760"/>
                <a:tab algn="l" pos="8840880"/>
                <a:tab algn="l" pos="9306000"/>
                <a:tab algn="l" pos="9767880"/>
                <a:tab algn="l" pos="10233000"/>
                <a:tab algn="l" pos="1069812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61880"/>
                <a:tab algn="l" pos="927000"/>
                <a:tab algn="l" pos="139212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7880"/>
                <a:tab algn="l" pos="4653000"/>
                <a:tab algn="l" pos="5119560"/>
                <a:tab algn="l" pos="5584680"/>
                <a:tab algn="l" pos="6049800"/>
                <a:tab algn="l" pos="6515280"/>
                <a:tab algn="l" pos="6980400"/>
                <a:tab algn="l" pos="7445520"/>
                <a:tab algn="l" pos="7910640"/>
                <a:tab algn="l" pos="8375760"/>
                <a:tab algn="l" pos="8840880"/>
                <a:tab algn="l" pos="9306000"/>
                <a:tab algn="l" pos="9767880"/>
                <a:tab algn="l" pos="10233000"/>
                <a:tab algn="l" pos="10698120"/>
              </a:tabLst>
            </a:pPr>
            <a:fld id="{D5DE8FE8-FB06-486E-924E-DB232CE70702}" type="datetime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993600" y="764640"/>
            <a:ext cx="5097600" cy="382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64240" cy="4587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0" y="9715680"/>
            <a:ext cx="3060720" cy="4968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4021200" y="9715680"/>
            <a:ext cx="3062160" cy="4968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461880"/>
                <a:tab algn="l" pos="927000"/>
                <a:tab algn="l" pos="139212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7880"/>
                <a:tab algn="l" pos="4653000"/>
                <a:tab algn="l" pos="5119560"/>
                <a:tab algn="l" pos="5584680"/>
                <a:tab algn="l" pos="6049800"/>
                <a:tab algn="l" pos="6515280"/>
                <a:tab algn="l" pos="6980400"/>
                <a:tab algn="l" pos="7445520"/>
                <a:tab algn="l" pos="7910640"/>
                <a:tab algn="l" pos="8375760"/>
                <a:tab algn="l" pos="8840880"/>
                <a:tab algn="l" pos="9306000"/>
                <a:tab algn="l" pos="9767880"/>
                <a:tab algn="l" pos="10233000"/>
                <a:tab algn="l" pos="1069812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61880"/>
                <a:tab algn="l" pos="927000"/>
                <a:tab algn="l" pos="139212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7880"/>
                <a:tab algn="l" pos="4653000"/>
                <a:tab algn="l" pos="5119560"/>
                <a:tab algn="l" pos="5584680"/>
                <a:tab algn="l" pos="6049800"/>
                <a:tab algn="l" pos="6515280"/>
                <a:tab algn="l" pos="6980400"/>
                <a:tab algn="l" pos="7445520"/>
                <a:tab algn="l" pos="7910640"/>
                <a:tab algn="l" pos="8375760"/>
                <a:tab algn="l" pos="8840880"/>
                <a:tab algn="l" pos="9306000"/>
                <a:tab algn="l" pos="9767880"/>
                <a:tab algn="l" pos="10233000"/>
                <a:tab algn="l" pos="10698120"/>
              </a:tabLst>
            </a:pPr>
            <a:fld id="{2E6BBA96-F2D5-43CF-8552-B4F86C6983AB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6"/>
          <p:cNvSpPr/>
          <p:nvPr/>
        </p:nvSpPr>
        <p:spPr>
          <a:xfrm>
            <a:off x="4021200" y="9715680"/>
            <a:ext cx="30621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61880"/>
                <a:tab algn="l" pos="927000"/>
                <a:tab algn="l" pos="139212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7880"/>
                <a:tab algn="l" pos="4653000"/>
                <a:tab algn="l" pos="5119560"/>
                <a:tab algn="l" pos="5584680"/>
                <a:tab algn="l" pos="6049800"/>
                <a:tab algn="l" pos="6515280"/>
                <a:tab algn="l" pos="6980400"/>
                <a:tab algn="l" pos="7445520"/>
                <a:tab algn="l" pos="7910640"/>
                <a:tab algn="l" pos="8375760"/>
                <a:tab algn="l" pos="8840880"/>
                <a:tab algn="l" pos="9306000"/>
                <a:tab algn="l" pos="9767880"/>
                <a:tab algn="l" pos="10233000"/>
                <a:tab algn="l" pos="10698120"/>
              </a:tabLst>
            </a:pPr>
            <a:fld id="{B920B6DC-A2D0-4EA4-9599-0C15DFC61706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"/>
          <p:cNvSpPr/>
          <p:nvPr/>
        </p:nvSpPr>
        <p:spPr>
          <a:xfrm>
            <a:off x="957240" y="765000"/>
            <a:ext cx="5186520" cy="383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 algn="ctr"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65680" cy="45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1031760" y="792000"/>
            <a:ext cx="5349960" cy="395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65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6"/>
          <p:cNvSpPr/>
          <p:nvPr/>
        </p:nvSpPr>
        <p:spPr>
          <a:xfrm>
            <a:off x="4021200" y="9715680"/>
            <a:ext cx="30621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61880"/>
                <a:tab algn="l" pos="927000"/>
                <a:tab algn="l" pos="139212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7880"/>
                <a:tab algn="l" pos="4653000"/>
                <a:tab algn="l" pos="5119560"/>
                <a:tab algn="l" pos="5584680"/>
                <a:tab algn="l" pos="6049800"/>
                <a:tab algn="l" pos="6515280"/>
                <a:tab algn="l" pos="6980400"/>
                <a:tab algn="l" pos="7445520"/>
                <a:tab algn="l" pos="7910640"/>
                <a:tab algn="l" pos="8375760"/>
                <a:tab algn="l" pos="8840880"/>
                <a:tab algn="l" pos="9306000"/>
                <a:tab algn="l" pos="9767880"/>
                <a:tab algn="l" pos="10233000"/>
                <a:tab algn="l" pos="10698120"/>
              </a:tabLst>
            </a:pPr>
            <a:fld id="{C698CA98-3CCD-4821-ACBA-0C658F01827A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"/>
          <p:cNvSpPr/>
          <p:nvPr/>
        </p:nvSpPr>
        <p:spPr>
          <a:xfrm>
            <a:off x="957240" y="765000"/>
            <a:ext cx="5186520" cy="383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 algn="ctr"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65680" cy="45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6"/>
          <p:cNvSpPr/>
          <p:nvPr/>
        </p:nvSpPr>
        <p:spPr>
          <a:xfrm>
            <a:off x="4021200" y="9715680"/>
            <a:ext cx="30621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61880"/>
                <a:tab algn="l" pos="927000"/>
                <a:tab algn="l" pos="139212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7880"/>
                <a:tab algn="l" pos="4653000"/>
                <a:tab algn="l" pos="5119560"/>
                <a:tab algn="l" pos="5584680"/>
                <a:tab algn="l" pos="6049800"/>
                <a:tab algn="l" pos="6515280"/>
                <a:tab algn="l" pos="6980400"/>
                <a:tab algn="l" pos="7445520"/>
                <a:tab algn="l" pos="7910640"/>
                <a:tab algn="l" pos="8375760"/>
                <a:tab algn="l" pos="8840880"/>
                <a:tab algn="l" pos="9306000"/>
                <a:tab algn="l" pos="9767880"/>
                <a:tab algn="l" pos="10233000"/>
                <a:tab algn="l" pos="10698120"/>
              </a:tabLst>
            </a:pPr>
            <a:fld id="{43733684-E58C-4237-A053-22FC994FF4FF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"/>
          <p:cNvSpPr/>
          <p:nvPr/>
        </p:nvSpPr>
        <p:spPr>
          <a:xfrm>
            <a:off x="957240" y="765000"/>
            <a:ext cx="5186520" cy="383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 algn="ctr"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65680" cy="45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6"/>
          <p:cNvSpPr/>
          <p:nvPr/>
        </p:nvSpPr>
        <p:spPr>
          <a:xfrm>
            <a:off x="4021200" y="9715680"/>
            <a:ext cx="30621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61880"/>
                <a:tab algn="l" pos="927000"/>
                <a:tab algn="l" pos="139212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7880"/>
                <a:tab algn="l" pos="4653000"/>
                <a:tab algn="l" pos="5119560"/>
                <a:tab algn="l" pos="5584680"/>
                <a:tab algn="l" pos="6049800"/>
                <a:tab algn="l" pos="6515280"/>
                <a:tab algn="l" pos="6980400"/>
                <a:tab algn="l" pos="7445520"/>
                <a:tab algn="l" pos="7910640"/>
                <a:tab algn="l" pos="8375760"/>
                <a:tab algn="l" pos="8840880"/>
                <a:tab algn="l" pos="9306000"/>
                <a:tab algn="l" pos="9767880"/>
                <a:tab algn="l" pos="10233000"/>
                <a:tab algn="l" pos="10698120"/>
              </a:tabLst>
            </a:pPr>
            <a:fld id="{D457E3F8-0022-4FF3-9862-2F8F04B48801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"/>
          <p:cNvSpPr/>
          <p:nvPr/>
        </p:nvSpPr>
        <p:spPr>
          <a:xfrm>
            <a:off x="957240" y="765000"/>
            <a:ext cx="5186520" cy="383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 algn="ctr"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65680" cy="45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6"/>
          <p:cNvSpPr/>
          <p:nvPr/>
        </p:nvSpPr>
        <p:spPr>
          <a:xfrm>
            <a:off x="4021200" y="9715680"/>
            <a:ext cx="30621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61880"/>
                <a:tab algn="l" pos="927000"/>
                <a:tab algn="l" pos="139212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7880"/>
                <a:tab algn="l" pos="4653000"/>
                <a:tab algn="l" pos="5119560"/>
                <a:tab algn="l" pos="5584680"/>
                <a:tab algn="l" pos="6049800"/>
                <a:tab algn="l" pos="6515280"/>
                <a:tab algn="l" pos="6980400"/>
                <a:tab algn="l" pos="7445520"/>
                <a:tab algn="l" pos="7910640"/>
                <a:tab algn="l" pos="8375760"/>
                <a:tab algn="l" pos="8840880"/>
                <a:tab algn="l" pos="9306000"/>
                <a:tab algn="l" pos="9767880"/>
                <a:tab algn="l" pos="10233000"/>
                <a:tab algn="l" pos="10698120"/>
              </a:tabLst>
            </a:pPr>
            <a:fld id="{86583C09-D8DC-404A-B3ED-FF72B52465E1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"/>
          <p:cNvSpPr/>
          <p:nvPr/>
        </p:nvSpPr>
        <p:spPr>
          <a:xfrm>
            <a:off x="957240" y="765000"/>
            <a:ext cx="5186520" cy="383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 algn="ctr"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65680" cy="45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2B12-9697-4C0B-9F84-A73041F24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211320"/>
            <a:ext cx="8213760" cy="20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3479-E7F8-4C2A-960B-51DF5C111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211320"/>
            <a:ext cx="8213760" cy="20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F3E7-4CA5-43AD-9D86-E38CD2395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-211320"/>
            <a:ext cx="8213760" cy="20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BF47-D644-472D-952E-6A4FF5360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CE6EE-6CF3-47E3-AACE-C4C1CB3E2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211320"/>
            <a:ext cx="8213760" cy="20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70CD6-3CE3-4D50-B5B2-D0149C353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211320"/>
            <a:ext cx="8213760" cy="20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F799B-BB1B-49EF-B3CD-A75E4E094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211320"/>
            <a:ext cx="8213760" cy="20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B1CA7-E060-40B9-93D2-2CB475DD8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211320"/>
            <a:ext cx="8213760" cy="20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0C6D9-DDEE-46B4-9903-B427EC2AC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-211320"/>
            <a:ext cx="8213760" cy="97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34A06-46FC-4101-B7F2-7584BBD06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211320"/>
            <a:ext cx="8213760" cy="20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4806D-AA48-4BDB-A2BB-3BC07E65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211320"/>
            <a:ext cx="8213760" cy="20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9E8A-AB5B-4A88-97B7-9BC17EC18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211320"/>
            <a:ext cx="8213760" cy="20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F61B8-BD90-444D-9F23-7C263543E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211320"/>
            <a:ext cx="8213760" cy="20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4BBD1-BEBA-49D4-9178-281137D98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211320"/>
            <a:ext cx="8213760" cy="20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3079C-8577-4A3C-81FB-DA219AF60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211320"/>
            <a:ext cx="8213760" cy="20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860E0-5A59-4142-95DC-E5087C645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211320"/>
            <a:ext cx="8213760" cy="20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C5FCD-38A2-4156-A7D6-BD44751F0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211320"/>
            <a:ext cx="8213760" cy="20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4104-4225-42E6-8D99-CB436DABD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211320"/>
            <a:ext cx="8213760" cy="20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5345-1629-4498-83A9-9CDE7D85F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211320"/>
            <a:ext cx="8213760" cy="20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1C51-54DF-4B5C-8891-306FCB182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211320"/>
            <a:ext cx="8213760" cy="97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C947-248E-439B-BA71-F1327FEFB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211320"/>
            <a:ext cx="8213760" cy="20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476B-ACE7-4A86-9158-5E7F8D089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211320"/>
            <a:ext cx="8213760" cy="20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F89D-AF8E-4F62-A2D5-9A8D9DC4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211320"/>
            <a:ext cx="8213760" cy="20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5354-B6C1-4651-9A19-6B3421D8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211320"/>
            <a:ext cx="8213760" cy="20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1788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51EE535-EB45-45B7-BF0D-9430342CF5B6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8000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1788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F1E9671-88AB-47F6-BD9B-FC2CD47EB9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211320"/>
            <a:ext cx="8213760" cy="20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1788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1C6B192-F3DE-4FBD-A672-7F0A540F1365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8000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1788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4DC0606-6BF1-4EA8-850E-466437B93D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Номер слайда 1"/>
          <p:cNvSpPr/>
          <p:nvPr/>
        </p:nvSpPr>
        <p:spPr>
          <a:xfrm>
            <a:off x="6553080" y="6356520"/>
            <a:ext cx="21178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A2B50A0-8DF2-4143-9014-72DD817C607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кругленный прямоугольник 4"/>
          <p:cNvSpPr/>
          <p:nvPr/>
        </p:nvSpPr>
        <p:spPr>
          <a:xfrm>
            <a:off x="214200" y="214200"/>
            <a:ext cx="8786880" cy="6500880"/>
          </a:xfrm>
          <a:prstGeom prst="roundRect">
            <a:avLst>
              <a:gd name="adj" fmla="val 6171"/>
            </a:avLst>
          </a:prstGeom>
          <a:gradFill rotWithShape="0">
            <a:gsLst>
              <a:gs pos="0">
                <a:srgbClr val="537e25"/>
              </a:gs>
              <a:gs pos="100000">
                <a:srgbClr val="92da4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642960" y="3714840"/>
            <a:ext cx="7858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 разработке ОЦП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«Модернизация культуры села как ресурс развития территорий  на 2012-2014 гг.»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Рисунок 5" descr="Герб_Ул_обл.jpg"/>
          <p:cNvPicPr/>
          <p:nvPr/>
        </p:nvPicPr>
        <p:blipFill>
          <a:blip r:embed="rId2"/>
          <a:stretch/>
        </p:blipFill>
        <p:spPr>
          <a:xfrm>
            <a:off x="609480" y="871560"/>
            <a:ext cx="2621160" cy="2468520"/>
          </a:xfrm>
          <a:prstGeom prst="rect">
            <a:avLst/>
          </a:prstGeom>
          <a:ln w="0">
            <a:noFill/>
          </a:ln>
        </p:spPr>
      </p:pic>
      <p:grpSp>
        <p:nvGrpSpPr>
          <p:cNvPr id="103" name="Группа 4"/>
          <p:cNvGrpSpPr/>
          <p:nvPr/>
        </p:nvGrpSpPr>
        <p:grpSpPr>
          <a:xfrm>
            <a:off x="4284720" y="1268280"/>
            <a:ext cx="4032360" cy="1729080"/>
            <a:chOff x="4284720" y="1268280"/>
            <a:chExt cx="4032360" cy="1729080"/>
          </a:xfrm>
        </p:grpSpPr>
        <p:sp>
          <p:nvSpPr>
            <p:cNvPr id="104" name="Скругленный прямоугольник 2"/>
            <p:cNvSpPr/>
            <p:nvPr/>
          </p:nvSpPr>
          <p:spPr>
            <a:xfrm>
              <a:off x="4284720" y="1268280"/>
              <a:ext cx="4032360" cy="1729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  <a:effectLst>
              <a:outerShdw dist="38160" dir="108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Picture 2" descr="D:\D\Борисов\Делаем\Сторонние проекты\Долгосрочные проекты\НИК-SMP\Ульяновск\Идентичность\Брендбук\logos.jpg"/>
            <p:cNvPicPr/>
            <p:nvPr/>
          </p:nvPicPr>
          <p:blipFill>
            <a:blip r:embed="rId3"/>
            <a:srcRect l="8695" t="28135" r="53814" b="23955"/>
            <a:stretch/>
          </p:blipFill>
          <p:spPr>
            <a:xfrm>
              <a:off x="4500720" y="1392480"/>
              <a:ext cx="3643200" cy="1429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с двумя скругленными соседними углами 6"/>
          <p:cNvSpPr/>
          <p:nvPr/>
        </p:nvSpPr>
        <p:spPr>
          <a:xfrm>
            <a:off x="214200" y="201600"/>
            <a:ext cx="8715600" cy="1000080"/>
          </a:xfrm>
          <a:custGeom>
            <a:avLst/>
            <a:gdLst/>
            <a:ahLst/>
            <a:rect l="l" t="t" r="r" b="b"/>
            <a:pathLst>
              <a:path w="8715375" h="1000125">
                <a:moveTo>
                  <a:pt x="326351" y="0"/>
                </a:moveTo>
                <a:lnTo>
                  <a:pt x="8389024" y="0"/>
                </a:lnTo>
                <a:cubicBezTo>
                  <a:pt x="8569263" y="0"/>
                  <a:pt x="8715375" y="146112"/>
                  <a:pt x="8715375" y="326351"/>
                </a:cubicBezTo>
                <a:lnTo>
                  <a:pt x="8715375" y="1000125"/>
                </a:lnTo>
                <a:lnTo>
                  <a:pt x="8715375" y="1000125"/>
                </a:lnTo>
                <a:lnTo>
                  <a:pt x="0" y="1000125"/>
                </a:lnTo>
                <a:lnTo>
                  <a:pt x="0" y="1000125"/>
                </a:lnTo>
                <a:lnTo>
                  <a:pt x="0" y="326351"/>
                </a:lnTo>
                <a:cubicBezTo>
                  <a:pt x="0" y="146112"/>
                  <a:pt x="146112" y="0"/>
                  <a:pt x="326351" y="0"/>
                </a:cubicBezTo>
                <a:close/>
              </a:path>
            </a:pathLst>
          </a:custGeom>
          <a:gradFill rotWithShape="0">
            <a:gsLst>
              <a:gs pos="0">
                <a:srgbClr val="537e25"/>
              </a:gs>
              <a:gs pos="100000">
                <a:srgbClr val="92da4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324000" y="473040"/>
            <a:ext cx="8391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1.Краткий анализ состояния культуры села.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250920" y="1557360"/>
            <a:ext cx="8461440" cy="45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92d05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Из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Lucida Sans Unicode"/>
              </a:rPr>
              <a:t>570 библиотек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 Ульяновской области и муниципальных библиотек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Lucida Sans Unicode"/>
              </a:rPr>
              <a:t>36 требуют капитального ремонт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, два здания находятся в аварийном состоянии.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92d05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Из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Lucida Sans Unicode"/>
              </a:rPr>
              <a:t>558 учреждений культурно-досугового типа 42 требуют капитального ремонт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  <a:ea typeface="Lucida Sans Unicode"/>
              </a:rPr>
              <a:t>,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Lucida Sans Unicode"/>
              </a:rPr>
              <a:t>34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– находя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Lucida Sans Unicode"/>
              </a:rPr>
              <a:t>в аварийном состоянии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92d05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Износ инструментов составляет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Lucida Sans Unicode"/>
              </a:rPr>
              <a:t>90 %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  <a:ea typeface="Lucida Sans Unicode"/>
              </a:rPr>
              <a:t>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92d05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суммарный библиотечный фонд государственных библиотек Ульяновской области и муниципальных библиотек сокращается на 50-60 тыс. изданий. В результате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Lucida Sans Unicode"/>
              </a:rPr>
              <a:t>за последние 10 лет библиотечные фонды уменьшились на 800 тыс. изданий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92d05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телефонизированы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Lucida Sans Unicode"/>
              </a:rPr>
              <a:t>116 библиотек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 (20 % от общего числа библиотек). Электронную почту имеют всего 45 библиотек, выход в информационно-телекоммуникационную сеть общего пользования Интернет – 55 библиотек, только 94 библиотеки имеют компьютеры.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4"/>
          <p:cNvSpPr/>
          <p:nvPr/>
        </p:nvSpPr>
        <p:spPr>
          <a:xfrm>
            <a:off x="7885080" y="6165720"/>
            <a:ext cx="9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73D68E2-48F4-4B97-BFAE-291840949A46}" type="slidenum">
              <a:rPr b="1" i="1" lang="ru-RU" sz="2000" spc="-1" strike="noStrike">
                <a:solidFill>
                  <a:srgbClr val="339966"/>
                </a:solidFill>
                <a:latin typeface="Arial"/>
              </a:rPr>
              <a:t>&lt;number&gt;</a:t>
            </a:fld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Номер слайда 1"/>
          <p:cNvSpPr/>
          <p:nvPr/>
        </p:nvSpPr>
        <p:spPr>
          <a:xfrm>
            <a:off x="6553080" y="6356520"/>
            <a:ext cx="21178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6DC77CC-69C7-4252-B3BF-F6DCD854855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8"/>
          <p:cNvSpPr/>
          <p:nvPr/>
        </p:nvSpPr>
        <p:spPr>
          <a:xfrm>
            <a:off x="1285920" y="811080"/>
            <a:ext cx="6858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15"/>
          <p:cNvSpPr/>
          <p:nvPr/>
        </p:nvSpPr>
        <p:spPr>
          <a:xfrm>
            <a:off x="7885080" y="6180120"/>
            <a:ext cx="9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28CCA04-74DF-4EBE-B60A-1A2F6307CBEF}" type="slidenum">
              <a:rPr b="1" i="1" lang="ru-RU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с двумя скругленными соседними углами 16"/>
          <p:cNvSpPr/>
          <p:nvPr/>
        </p:nvSpPr>
        <p:spPr>
          <a:xfrm>
            <a:off x="249120" y="189000"/>
            <a:ext cx="8715600" cy="1000080"/>
          </a:xfrm>
          <a:prstGeom prst="pie">
            <a:avLst/>
          </a:prstGeom>
          <a:gradFill rotWithShape="0">
            <a:gsLst>
              <a:gs pos="0">
                <a:srgbClr val="537e25"/>
              </a:gs>
              <a:gs pos="100000">
                <a:srgbClr val="92da4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57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труктурные механизмы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57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ализации новой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57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ультурной политики на территории Ульяновской области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324000" y="1557360"/>
            <a:ext cx="8818560" cy="4411440"/>
            <a:chOff x="324000" y="1557360"/>
            <a:chExt cx="8818560" cy="4411440"/>
          </a:xfrm>
        </p:grpSpPr>
        <p:cxnSp>
          <p:nvCxnSpPr>
            <p:cNvPr id="115" name="_s5149"/>
            <p:cNvCxnSpPr>
              <a:stCxn id="116" idx="3"/>
              <a:endCxn id="117" idx="2"/>
            </p:cNvCxnSpPr>
            <p:nvPr/>
          </p:nvCxnSpPr>
          <p:spPr>
            <a:xfrm flipV="1">
              <a:off x="5614920" y="2359080"/>
              <a:ext cx="882360" cy="320904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18" name="_s5148"/>
            <p:cNvCxnSpPr>
              <a:stCxn id="119" idx="3"/>
              <a:endCxn id="117" idx="2"/>
            </p:cNvCxnSpPr>
            <p:nvPr/>
          </p:nvCxnSpPr>
          <p:spPr>
            <a:xfrm flipV="1">
              <a:off x="5614920" y="2359080"/>
              <a:ext cx="882360" cy="200592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20" name="_s5147"/>
            <p:cNvCxnSpPr>
              <a:stCxn id="121" idx="3"/>
              <a:endCxn id="117" idx="2"/>
            </p:cNvCxnSpPr>
            <p:nvPr/>
          </p:nvCxnSpPr>
          <p:spPr>
            <a:xfrm flipV="1">
              <a:off x="5614920" y="2359080"/>
              <a:ext cx="882360" cy="80280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117" name="_s5143"/>
            <p:cNvSpPr/>
            <p:nvPr/>
          </p:nvSpPr>
          <p:spPr>
            <a:xfrm>
              <a:off x="3851280" y="1557360"/>
              <a:ext cx="5291280" cy="802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Модельная региональная программа 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культурной политики Ульяновской области</a:t>
              </a:r>
              <a:r>
                <a:rPr b="1" i="1" lang="ru-RU" sz="21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1" i="1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5144"/>
            <p:cNvSpPr/>
            <p:nvPr/>
          </p:nvSpPr>
          <p:spPr>
            <a:xfrm>
              <a:off x="324000" y="2760480"/>
              <a:ext cx="5291280" cy="802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ffffff"/>
                  </a:solidFill>
                  <a:latin typeface="Arial"/>
                </a:rPr>
                <a:t>ОЦП «Культура Ульяновской области</a:t>
              </a:r>
              <a:endParaRPr b="1" i="1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2100" spc="-1" strike="noStrike">
                  <a:solidFill>
                    <a:srgbClr val="ffffff"/>
                  </a:solidFill>
                  <a:latin typeface="Arial"/>
                </a:rPr>
                <a:t>на 2012 – 2016 годы»</a:t>
              </a:r>
              <a:endParaRPr b="1" i="1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5145"/>
            <p:cNvSpPr/>
            <p:nvPr/>
          </p:nvSpPr>
          <p:spPr>
            <a:xfrm>
              <a:off x="324000" y="3963600"/>
              <a:ext cx="5291280" cy="802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ffffff"/>
                  </a:solidFill>
                  <a:latin typeface="Arial"/>
                </a:rPr>
                <a:t>ОЦП «Модернизация культуры села </a:t>
              </a:r>
              <a:endParaRPr b="1" i="1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ffffff"/>
                  </a:solidFill>
                  <a:latin typeface="Arial"/>
                </a:rPr>
                <a:t>как ресурс развития территорий на 2012 – 2014 гг»</a:t>
              </a:r>
              <a:endParaRPr b="1" i="1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5146"/>
            <p:cNvSpPr/>
            <p:nvPr/>
          </p:nvSpPr>
          <p:spPr>
            <a:xfrm>
              <a:off x="324000" y="5166720"/>
              <a:ext cx="5291280" cy="802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ffffff"/>
                  </a:solidFill>
                  <a:latin typeface="Arial"/>
                </a:rPr>
                <a:t>ЗАКОН «О культурной политике </a:t>
              </a:r>
              <a:endParaRPr b="1" i="1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ffffff"/>
                  </a:solidFill>
                  <a:latin typeface="Arial"/>
                </a:rPr>
                <a:t>Ульяновской области»</a:t>
              </a:r>
              <a:endParaRPr b="1" i="1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468360" y="1224000"/>
            <a:ext cx="784872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10"/>
          <p:cNvSpPr/>
          <p:nvPr/>
        </p:nvSpPr>
        <p:spPr>
          <a:xfrm>
            <a:off x="7891560" y="6269040"/>
            <a:ext cx="92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A7A2821-63AB-40FF-9E39-AB67D4DF945D}" type="slidenum">
              <a:rPr b="1" i="1" lang="ru-RU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с двумя скругленными соседними углами 11"/>
          <p:cNvSpPr/>
          <p:nvPr/>
        </p:nvSpPr>
        <p:spPr>
          <a:xfrm>
            <a:off x="214200" y="201600"/>
            <a:ext cx="8715600" cy="1714680"/>
          </a:xfrm>
          <a:prstGeom prst="pie">
            <a:avLst/>
          </a:prstGeom>
          <a:gradFill rotWithShape="0">
            <a:gsLst>
              <a:gs pos="0">
                <a:srgbClr val="537e25"/>
              </a:gs>
              <a:gs pos="100000">
                <a:srgbClr val="92da4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ts val="1397"/>
              </a:lnSpc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0920" y="251280"/>
            <a:ext cx="856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дернизация – это система мер и мероприятий по преодолению экономического и технологического отставания России от некоторых развитых стран Запада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ОКДАД ИНСОР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5280" y="2708280"/>
            <a:ext cx="8207280" cy="2808360"/>
          </a:xfrm>
          <a:prstGeom prst="flowChartAlternateProcess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ДЕРНИЗАЦИЯ КУЛЬТУРЫ –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истема мер и мероприятий по преодолению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ставания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феры культуры от экономических,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хнологических и промышленных отраслей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 целью формирования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диной национальной культурной политики,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ределяющей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ховное развитие населения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оугольник с двумя скругленными соседними углами 6"/>
          <p:cNvSpPr/>
          <p:nvPr/>
        </p:nvSpPr>
        <p:spPr>
          <a:xfrm>
            <a:off x="214200" y="201600"/>
            <a:ext cx="8715600" cy="1000080"/>
          </a:xfrm>
          <a:custGeom>
            <a:avLst/>
            <a:gdLst/>
            <a:ahLst/>
            <a:rect l="l" t="t" r="r" b="b"/>
            <a:pathLst>
              <a:path w="8715375" h="1000125">
                <a:moveTo>
                  <a:pt x="326351" y="0"/>
                </a:moveTo>
                <a:lnTo>
                  <a:pt x="8389024" y="0"/>
                </a:lnTo>
                <a:cubicBezTo>
                  <a:pt x="8569263" y="0"/>
                  <a:pt x="8715375" y="146112"/>
                  <a:pt x="8715375" y="326351"/>
                </a:cubicBezTo>
                <a:lnTo>
                  <a:pt x="8715375" y="1000125"/>
                </a:lnTo>
                <a:lnTo>
                  <a:pt x="8715375" y="1000125"/>
                </a:lnTo>
                <a:lnTo>
                  <a:pt x="0" y="1000125"/>
                </a:lnTo>
                <a:lnTo>
                  <a:pt x="0" y="1000125"/>
                </a:lnTo>
                <a:lnTo>
                  <a:pt x="0" y="326351"/>
                </a:lnTo>
                <a:cubicBezTo>
                  <a:pt x="0" y="146112"/>
                  <a:pt x="146112" y="0"/>
                  <a:pt x="326351" y="0"/>
                </a:cubicBezTo>
                <a:close/>
              </a:path>
            </a:pathLst>
          </a:custGeom>
          <a:gradFill rotWithShape="0">
            <a:gsLst>
              <a:gs pos="0">
                <a:srgbClr val="537e25"/>
              </a:gs>
              <a:gs pos="100000">
                <a:srgbClr val="92da4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3132000" y="473040"/>
            <a:ext cx="558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ЗДЕЛЫ ПРОГРАММЫ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4"/>
          <p:cNvSpPr/>
          <p:nvPr/>
        </p:nvSpPr>
        <p:spPr>
          <a:xfrm>
            <a:off x="7885080" y="6165720"/>
            <a:ext cx="9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D53E3C0-F34E-4F45-A926-B332EBF90B1E}" type="slidenum">
              <a:rPr b="1" i="1" lang="ru-RU" sz="2000" spc="-1" strike="noStrike">
                <a:solidFill>
                  <a:srgbClr val="339966"/>
                </a:solidFill>
                <a:latin typeface="Arial"/>
              </a:rPr>
              <a:t>&lt;number&gt;</a:t>
            </a:fld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0920" y="1557360"/>
            <a:ext cx="6913440" cy="934920"/>
          </a:xfrm>
          <a:prstGeom prst="flowChartAlternateProcess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04920" indent="-304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1 раздел: Строительство, реконструкция и проведение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емонтных работ зданий муниципальных учреждений культуры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63640" y="2708280"/>
            <a:ext cx="7056360" cy="2736720"/>
          </a:xfrm>
          <a:prstGeom prst="flowChartAlternateProcess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убсидии муниципальным образованиям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льяновской области на строительство,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конструкцию и проведение ремонтных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бот зданий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униципальных учреждений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ультуры Ульяновской области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с двумя скругленными соседними углами 6"/>
          <p:cNvSpPr/>
          <p:nvPr/>
        </p:nvSpPr>
        <p:spPr>
          <a:xfrm>
            <a:off x="214200" y="201600"/>
            <a:ext cx="8715600" cy="1000080"/>
          </a:xfrm>
          <a:custGeom>
            <a:avLst/>
            <a:gdLst/>
            <a:ahLst/>
            <a:rect l="l" t="t" r="r" b="b"/>
            <a:pathLst>
              <a:path w="8715375" h="1000125">
                <a:moveTo>
                  <a:pt x="326351" y="0"/>
                </a:moveTo>
                <a:lnTo>
                  <a:pt x="8389024" y="0"/>
                </a:lnTo>
                <a:cubicBezTo>
                  <a:pt x="8569263" y="0"/>
                  <a:pt x="8715375" y="146112"/>
                  <a:pt x="8715375" y="326351"/>
                </a:cubicBezTo>
                <a:lnTo>
                  <a:pt x="8715375" y="1000125"/>
                </a:lnTo>
                <a:lnTo>
                  <a:pt x="8715375" y="1000125"/>
                </a:lnTo>
                <a:lnTo>
                  <a:pt x="0" y="1000125"/>
                </a:lnTo>
                <a:lnTo>
                  <a:pt x="0" y="1000125"/>
                </a:lnTo>
                <a:lnTo>
                  <a:pt x="0" y="326351"/>
                </a:lnTo>
                <a:cubicBezTo>
                  <a:pt x="0" y="146112"/>
                  <a:pt x="146112" y="0"/>
                  <a:pt x="326351" y="0"/>
                </a:cubicBezTo>
                <a:close/>
              </a:path>
            </a:pathLst>
          </a:custGeom>
          <a:gradFill rotWithShape="0">
            <a:gsLst>
              <a:gs pos="0">
                <a:srgbClr val="537e25"/>
              </a:gs>
              <a:gs pos="100000">
                <a:srgbClr val="92da4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3132000" y="473040"/>
            <a:ext cx="558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зделы программы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5"/>
          <p:cNvSpPr/>
          <p:nvPr/>
        </p:nvSpPr>
        <p:spPr>
          <a:xfrm>
            <a:off x="7880400" y="6261120"/>
            <a:ext cx="9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FFF3288-0F5A-447B-8555-29F89E71A8D4}" type="slidenum">
              <a:rPr b="1" i="1" lang="ru-RU" sz="2000" spc="-1" strike="noStrike">
                <a:solidFill>
                  <a:srgbClr val="339966"/>
                </a:solidFill>
                <a:latin typeface="Arial"/>
              </a:rPr>
              <a:t>&lt;number&gt;</a:t>
            </a:fld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4000" y="1484280"/>
            <a:ext cx="7343640" cy="79236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 раздел: Модернизация и техническое оснащение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униципальных учреждений культуры.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547640" y="2565360"/>
            <a:ext cx="7056720" cy="720720"/>
          </a:xfrm>
          <a:prstGeom prst="flowChartAlternateProcess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1Субсидии муниципальным образованиям Ульяновской области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 приобретение светозвукового и сценического оборудования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547640" y="3429000"/>
            <a:ext cx="7056720" cy="647640"/>
          </a:xfrm>
          <a:prstGeom prst="flowChartAlternateProcess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убсидии муниципальным образованиям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льяновской области на приобретение автотранспорта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19280" y="4292640"/>
            <a:ext cx="7056360" cy="647640"/>
          </a:xfrm>
          <a:prstGeom prst="flowChartAlternateProcess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убсидии муниципальным образованиям на создание экспозиций,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еэкспозиций в муниципальных музеях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19280" y="5084640"/>
            <a:ext cx="7056360" cy="648000"/>
          </a:xfrm>
          <a:prstGeom prst="flowChartAlternateProcess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убсидии на приобретение музыкальных инструментов,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пециализированной мебели и оборудования для ДШИ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19280" y="5877000"/>
            <a:ext cx="7056360" cy="647640"/>
          </a:xfrm>
          <a:prstGeom prst="flowChartAlternateProcess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убсидии на модернизацию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нформационно-коммуникационных технологий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с двумя скругленными соседними углами 6"/>
          <p:cNvSpPr/>
          <p:nvPr/>
        </p:nvSpPr>
        <p:spPr>
          <a:xfrm>
            <a:off x="214200" y="201600"/>
            <a:ext cx="8715600" cy="1000080"/>
          </a:xfrm>
          <a:custGeom>
            <a:avLst/>
            <a:gdLst/>
            <a:ahLst/>
            <a:rect l="l" t="t" r="r" b="b"/>
            <a:pathLst>
              <a:path w="8715375" h="1000125">
                <a:moveTo>
                  <a:pt x="326351" y="0"/>
                </a:moveTo>
                <a:lnTo>
                  <a:pt x="8389024" y="0"/>
                </a:lnTo>
                <a:cubicBezTo>
                  <a:pt x="8569263" y="0"/>
                  <a:pt x="8715375" y="146112"/>
                  <a:pt x="8715375" y="326351"/>
                </a:cubicBezTo>
                <a:lnTo>
                  <a:pt x="8715375" y="1000125"/>
                </a:lnTo>
                <a:lnTo>
                  <a:pt x="8715375" y="1000125"/>
                </a:lnTo>
                <a:lnTo>
                  <a:pt x="0" y="1000125"/>
                </a:lnTo>
                <a:lnTo>
                  <a:pt x="0" y="1000125"/>
                </a:lnTo>
                <a:lnTo>
                  <a:pt x="0" y="326351"/>
                </a:lnTo>
                <a:cubicBezTo>
                  <a:pt x="0" y="146112"/>
                  <a:pt x="146112" y="0"/>
                  <a:pt x="326351" y="0"/>
                </a:cubicBezTo>
                <a:close/>
              </a:path>
            </a:pathLst>
          </a:custGeom>
          <a:gradFill rotWithShape="0">
            <a:gsLst>
              <a:gs pos="0">
                <a:srgbClr val="537e25"/>
              </a:gs>
              <a:gs pos="100000">
                <a:srgbClr val="92da4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3132000" y="473040"/>
            <a:ext cx="558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ЗДЕЛЫ ПРОГРАММЫ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4"/>
          <p:cNvSpPr/>
          <p:nvPr/>
        </p:nvSpPr>
        <p:spPr>
          <a:xfrm>
            <a:off x="7885080" y="6165720"/>
            <a:ext cx="9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9E470B5-7FFB-4E3D-8B2C-7D3A2A11BA23}" type="slidenum">
              <a:rPr b="1" i="1" lang="ru-RU" sz="2000" spc="-1" strike="noStrike">
                <a:solidFill>
                  <a:srgbClr val="339966"/>
                </a:solidFill>
                <a:latin typeface="Arial"/>
              </a:rPr>
              <a:t>&lt;number&gt;</a:t>
            </a:fld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0920" y="1557360"/>
            <a:ext cx="6913440" cy="934920"/>
          </a:xfrm>
          <a:prstGeom prst="flowChartAlternateProcess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04920" indent="-304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3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здел: Создание модельных учреждений культуры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ак ресурс развития территории муниципального образования.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08000" y="2637000"/>
            <a:ext cx="6913800" cy="934920"/>
          </a:xfrm>
          <a:prstGeom prst="flowChartAlternateProcess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04920" indent="-30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здание модельных клубов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908000" y="3789360"/>
            <a:ext cx="6913800" cy="934920"/>
          </a:xfrm>
          <a:prstGeom prst="flowChartAlternateProcess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04920" indent="-30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здание модельных библиотек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908000" y="4869000"/>
            <a:ext cx="6913800" cy="934920"/>
          </a:xfrm>
          <a:prstGeom prst="flowChartAlternateProcess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04920" indent="-30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здание публичных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центров правовой информации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08000" y="5923080"/>
            <a:ext cx="6913800" cy="934920"/>
          </a:xfrm>
          <a:prstGeom prst="flowChartAlternateProcess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04920" indent="-30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здание информационно-методицеских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ентров в муниципальных учреждениях культуры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Прямоугольник с двумя скругленными соседними углами 6"/>
          <p:cNvSpPr/>
          <p:nvPr/>
        </p:nvSpPr>
        <p:spPr>
          <a:xfrm>
            <a:off x="214200" y="201600"/>
            <a:ext cx="8715600" cy="1000080"/>
          </a:xfrm>
          <a:custGeom>
            <a:avLst/>
            <a:gdLst/>
            <a:ahLst/>
            <a:rect l="l" t="t" r="r" b="b"/>
            <a:pathLst>
              <a:path w="8715375" h="1000125">
                <a:moveTo>
                  <a:pt x="326351" y="0"/>
                </a:moveTo>
                <a:lnTo>
                  <a:pt x="8389024" y="0"/>
                </a:lnTo>
                <a:cubicBezTo>
                  <a:pt x="8569263" y="0"/>
                  <a:pt x="8715375" y="146112"/>
                  <a:pt x="8715375" y="326351"/>
                </a:cubicBezTo>
                <a:lnTo>
                  <a:pt x="8715375" y="1000125"/>
                </a:lnTo>
                <a:lnTo>
                  <a:pt x="8715375" y="1000125"/>
                </a:lnTo>
                <a:lnTo>
                  <a:pt x="0" y="1000125"/>
                </a:lnTo>
                <a:lnTo>
                  <a:pt x="0" y="1000125"/>
                </a:lnTo>
                <a:lnTo>
                  <a:pt x="0" y="326351"/>
                </a:lnTo>
                <a:cubicBezTo>
                  <a:pt x="0" y="146112"/>
                  <a:pt x="146112" y="0"/>
                  <a:pt x="326351" y="0"/>
                </a:cubicBezTo>
                <a:close/>
              </a:path>
            </a:pathLst>
          </a:custGeom>
          <a:gradFill rotWithShape="0">
            <a:gsLst>
              <a:gs pos="0">
                <a:srgbClr val="537e25"/>
              </a:gs>
              <a:gs pos="100000">
                <a:srgbClr val="92da4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3132000" y="473040"/>
            <a:ext cx="558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ЗДЕЛЫ ПРОГРАММЫ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4"/>
          <p:cNvSpPr/>
          <p:nvPr/>
        </p:nvSpPr>
        <p:spPr>
          <a:xfrm>
            <a:off x="7885080" y="6165720"/>
            <a:ext cx="9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D1A82A4-C7D3-433C-ABC9-5460C4A643E8}" type="slidenum">
              <a:rPr b="1" i="1" lang="ru-RU" sz="2000" spc="-1" strike="noStrike">
                <a:solidFill>
                  <a:srgbClr val="339966"/>
                </a:solidFill>
                <a:latin typeface="Arial"/>
              </a:rPr>
              <a:t>&lt;number&gt;</a:t>
            </a:fld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0920" y="1557360"/>
            <a:ext cx="6913440" cy="934920"/>
          </a:xfrm>
          <a:prstGeom prst="flowChartAlternateProcess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04920" indent="-304920" algn="ctr">
              <a:buClr>
                <a:srgbClr val="ffffff"/>
              </a:buClr>
              <a:buFont typeface="Arial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дел Тетрально-концертная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ездная программа «Культура селу»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0920" y="2637000"/>
            <a:ext cx="6913440" cy="934920"/>
          </a:xfrm>
          <a:prstGeom prst="flowChartAlternateProcess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04920" indent="-304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5 раздел Областной конкурс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рантовых проектов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3789360"/>
            <a:ext cx="6913440" cy="934920"/>
          </a:xfrm>
          <a:prstGeom prst="flowChartAlternateProcess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04920" indent="-30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6 раздел Мероприятия по продвижению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информационному сопровождению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ластной целевой программы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6T20:17:44Z</dcterms:created>
  <dc:creator>Andrei Famili</dc:creator>
  <dc:description/>
  <dc:language>en-US</dc:language>
  <cp:lastModifiedBy>123</cp:lastModifiedBy>
  <cp:lastPrinted>2009-06-29T07:12:52Z</cp:lastPrinted>
  <dcterms:modified xsi:type="dcterms:W3CDTF">2011-06-30T03:30:05Z</dcterms:modified>
  <cp:revision>2731</cp:revision>
  <dc:subject/>
  <dc:title>    ПОРТОВАЯ ОСОБАЯ ЭКОНОМИЧЕСКАЯ ЗОНА</dc:title>
</cp:coreProperties>
</file>