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E7FD4-4E78-4A1E-9F5D-2E549FA72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E358B-1518-49D0-901A-631A1F7C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980B7-C7ED-41D9-9843-0578C2ECB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17D25-44EF-4F57-A99C-B6899E4AA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640E2-C070-41C8-96B7-309A34D3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467F-23AB-4349-8A7E-B58A50D53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11D6-E78D-4AE8-94F6-86DF9367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5BC3C-12E3-4FD2-9387-C2022691E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C07D-C5B6-4B25-BE53-BE600197E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045C7-572E-41F6-A172-29C119D8C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9C7A-5341-452C-BDF4-9B4A55672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0E453-51DD-401F-905B-7E8BBD5C1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43A1-8076-4AF6-B6F5-BF3CA869F35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3" descr="сканирование0024.jpg"/>
          <p:cNvPicPr/>
          <p:nvPr/>
        </p:nvPicPr>
        <p:blipFill>
          <a:blip r:embed="rId1"/>
          <a:stretch/>
        </p:blipFill>
        <p:spPr>
          <a:xfrm>
            <a:off x="7072200" y="3857760"/>
            <a:ext cx="1630440" cy="2139840"/>
          </a:xfrm>
          <a:prstGeom prst="rect">
            <a:avLst/>
          </a:prstGeom>
          <a:ln w="0">
            <a:noFill/>
          </a:ln>
        </p:spPr>
      </p:pic>
      <p:sp>
        <p:nvSpPr>
          <p:cNvPr id="42" name="PlaceHolder 1"/>
          <p:cNvSpPr>
            <a:spLocks noGrp="1"/>
          </p:cNvSpPr>
          <p:nvPr>
            <p:ph type="title"/>
          </p:nvPr>
        </p:nvSpPr>
        <p:spPr>
          <a:xfrm>
            <a:off x="714240" y="928440"/>
            <a:ext cx="7772400" cy="242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ект </a:t>
            </a:r>
            <a:br>
              <a:rPr sz="4000"/>
            </a:br>
            <a:r>
              <a:rPr b="0" lang="ru-RU" sz="4000" spc="-1" strike="noStrike">
                <a:solidFill>
                  <a:srgbClr val="000000"/>
                </a:solidFill>
                <a:latin typeface="Calibri"/>
              </a:rPr>
              <a:t>Федерального закона </a:t>
            </a:r>
            <a:br>
              <a:rPr sz="4000"/>
            </a:br>
            <a:r>
              <a:rPr b="0" lang="ru-RU" sz="4000" spc="-1" strike="noStrike">
                <a:solidFill>
                  <a:srgbClr val="000000"/>
                </a:solidFill>
                <a:latin typeface="Calibri"/>
              </a:rPr>
              <a:t>«Об образовании в Российской Федерации»</a:t>
            </a:r>
            <a:br>
              <a:rPr sz="4000"/>
            </a:br>
            <a:r>
              <a:rPr b="1" i="1" lang="ru-RU" sz="4000" spc="-1" strike="noStrike">
                <a:solidFill>
                  <a:srgbClr val="000000"/>
                </a:solidFill>
                <a:latin typeface="Calibri"/>
              </a:rPr>
              <a:t>статья 161</a:t>
            </a:r>
            <a:endParaRPr b="0" lang="en-US" sz="4000" spc="-1" strike="noStrike">
              <a:solidFill>
                <a:srgbClr val="000000"/>
              </a:solidFill>
              <a:latin typeface="Calibri"/>
            </a:endParaRPr>
          </a:p>
        </p:txBody>
      </p:sp>
      <p:sp>
        <p:nvSpPr>
          <p:cNvPr id="43" name="PlaceHolder 2"/>
          <p:cNvSpPr>
            <a:spLocks noGrp="1"/>
          </p:cNvSpPr>
          <p:nvPr>
            <p:ph type="subTitle"/>
          </p:nvPr>
        </p:nvSpPr>
        <p:spPr>
          <a:xfrm>
            <a:off x="1371600" y="3886200"/>
            <a:ext cx="5557680" cy="17524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6c0000"/>
                </a:solidFill>
                <a:latin typeface="Calibri"/>
              </a:rPr>
              <a:t>По результатам Конференции-форума преподавателей детских школ искусств</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c0000"/>
                </a:solidFill>
                <a:latin typeface="Calibri"/>
              </a:rPr>
              <a:t>Москва, 26-28 сентября 2010 года </a:t>
            </a:r>
            <a:endParaRPr b="0" lang="en-US" sz="2000" spc="-1" strike="noStrike">
              <a:solidFill>
                <a:srgbClr val="0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0" y="1042200"/>
            <a:ext cx="9144000" cy="398772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1. К педагогическим работникам образовательной организации, реализующей образовательные программы в области искусства, кроме должностей, предусмотренных настоящий Федеральным законом, относятся концертмейсте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реализации предпрофессиональных образовательных программ в области искусства учебная нагрузка педагогических работников, в том числе и концертмейстеров, за ставку заработной платы составляет 18 академических часов в неделю.</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реализации интегрированных образовательных программ в области искусства, основных профессиональных образовательных программ среднего профессионального образования в области искусства учебная нагрузка для педагогических работников, в том числе и концертмейстеров, на учебный год не должна превышать 1440 академических час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реализации основных профессиональных образовательных программ высшего образования в области искусства, а также программ ассистентуры-стажировки учебная нагрузка для педагогических работников, в том числе и концертмейстеров, устанавливается образовательной организацией самостоятельно в зависимости от их квалификации и профиля образовательной программы в размере до 900 академических часов в учебном году.</a:t>
            </a:r>
            <a:endParaRPr b="0" lang="en-US" sz="1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2008080"/>
            <a:ext cx="9144000" cy="155412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2. Образовательная организация, реализующая образовательные программы в области искусства, обладает правом использования творческих работ, выполненных обучающимися в процессе освоения образовательных программ в области искусства, если иные условия не оговорены договором между образовательной организацией и обучающимся, а в отношении лиц, не достигших возраста восемнадцати лет, между образовательной организацией и их родителями (законными представителями).</a:t>
            </a:r>
            <a:endParaRPr b="0" lang="en-US" sz="16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0" y="885960"/>
            <a:ext cx="9144000" cy="520452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3. Федеральный орган исполнительной власти, осуществляющий функции по выработке государственной политики и нормативно-правовому регулированию в сфере культу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утверждает формы свидетельства об освоении предпрофессиональной образовательной программы в области искусства и справки, выдаваемой лицу, не завершившему освоение предпрофессиональной образовательной программы в области искус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 утверждает форму диплома о соответствующей квалификации, выдаваемого лицу, освоившему в полном объеме программу ассистентуры-стажировки и прошедшему государственную (итоговую) аттестацию;</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 обеспечивает разработку примерных основных образовательных программ соответствующего уровня и направленности в области искусства и утверждает 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 определяет особенности реализации предпрофессиональных образовательных программ в области искусства, </a:t>
            </a:r>
            <a:r>
              <a:rPr b="0" lang="ru-RU" sz="1600" spc="-1" strike="noStrike" u="sng">
                <a:solidFill>
                  <a:srgbClr val="000000"/>
                </a:solidFill>
                <a:uFillTx/>
                <a:latin typeface="Arial"/>
                <a:ea typeface="Times New Roman"/>
              </a:rPr>
              <a:t>интегрированных образовательных программ в области искус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 проводит аттестацию педагогических работников федеральных государственных образовательных учреждений, реализующих образовательные программы в области искус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 устанавливает в части, не противоречащей настоящему Федеральному закону, другие особенности организации и реализации образовательной, </a:t>
            </a:r>
            <a:r>
              <a:rPr b="0" lang="ru-RU" sz="1600" spc="-1" strike="noStrike">
                <a:solidFill>
                  <a:srgbClr val="002060"/>
                </a:solidFill>
                <a:latin typeface="Arial"/>
                <a:ea typeface="Times New Roman"/>
              </a:rPr>
              <a:t>художес</a:t>
            </a:r>
            <a:r>
              <a:rPr b="0" lang="ru-RU" sz="1600" spc="-1" strike="noStrike" u="sng">
                <a:solidFill>
                  <a:srgbClr val="002060"/>
                </a:solidFill>
                <a:uFillTx/>
                <a:latin typeface="Arial"/>
                <a:ea typeface="Times New Roman"/>
              </a:rPr>
              <a:t>твенно-творческой</a:t>
            </a:r>
            <a:r>
              <a:rPr b="0" lang="ru-RU" sz="1600" spc="-1" strike="noStrike">
                <a:solidFill>
                  <a:srgbClr val="002060"/>
                </a:solidFill>
                <a:latin typeface="Arial"/>
                <a:ea typeface="Times New Roman"/>
              </a:rPr>
              <a:t> </a:t>
            </a:r>
            <a:r>
              <a:rPr b="0" lang="ru-RU" sz="1600" spc="-1" strike="noStrike">
                <a:solidFill>
                  <a:srgbClr val="000000"/>
                </a:solidFill>
                <a:latin typeface="Arial"/>
                <a:ea typeface="Times New Roman"/>
              </a:rPr>
              <a:t>и методической деятельности по образовательным программам в области искусства.</a:t>
            </a:r>
            <a:endParaRPr b="0" lang="en-US" sz="1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00040" y="999720"/>
            <a:ext cx="8229600" cy="4714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татья 161.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собенности реализации образовательных программ в области искусства </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данной статье подчеркнутый текст не вошел в размещенный на сайте Минобрнауки России проект ФЗ)</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1796400"/>
            <a:ext cx="9144000" cy="204084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Художественное образование и эстетическое воспитание граждан, а также подготовка квалифицированных творческих и педагогических кадров в области искусства осуществляются посредством реализации преемственных основных и дополнительных образовательных программ в области искус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еализация образовательных программ в области искусства направлена на раннее выявление одарённых детей и молодежи, профессиональное становление и развитие обучающихся, основанное на возрастных, эмоциональных, интеллектуальных и физиологических факторах.</a:t>
            </a:r>
            <a:endParaRPr b="0" lang="en-US" sz="1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953640"/>
            <a:ext cx="9144000" cy="447444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 В области искусства реализуются следующие образовательные программы:</a:t>
            </a:r>
            <a:endParaRPr b="0" lang="en-US" sz="1600" spc="-1" strike="noStrike">
              <a:solidFill>
                <a:srgbClr val="000000"/>
              </a:solidFill>
              <a:latin typeface="Arial"/>
            </a:endParaRPr>
          </a:p>
          <a:p>
            <a:pPr indent="45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новные образовательные программы среднего профессионального образования, интегрированные с основными образовательными программами общего образования, обеспечивающие возможность ранней профессионализации особо одарённых детей (далее интегрированные образовательные программы в области искусства);</a:t>
            </a:r>
            <a:endParaRPr b="0" lang="en-US" sz="1600" spc="-1" strike="noStrike">
              <a:solidFill>
                <a:srgbClr val="000000"/>
              </a:solidFill>
              <a:latin typeface="Arial"/>
            </a:endParaRPr>
          </a:p>
          <a:p>
            <a:pPr indent="45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новные образовательные программ среднего профессионального образования (программы подготовки специалистов среднего звена), основные образовательные программы высшего образования (программы бакалавриата, подготовки специалиста и магистратуры);</a:t>
            </a:r>
            <a:endParaRPr b="0" lang="en-US" sz="1600" spc="-1" strike="noStrike">
              <a:solidFill>
                <a:srgbClr val="000000"/>
              </a:solidFill>
              <a:latin typeface="Arial"/>
            </a:endParaRPr>
          </a:p>
          <a:p>
            <a:pPr indent="45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полнительные предпрофессиональные образовательные программы в области искусства, направленные на художественно-творческое развитие личности, выявление одарённых детей, получение ими начальных знаний о профессии и их подготовку к поступлению на профильные образовательные программы (далее - предпрофессиональные образовательные программы в области искусства);</a:t>
            </a:r>
            <a:endParaRPr b="0" lang="en-US" sz="1600" spc="-1" strike="noStrike">
              <a:solidFill>
                <a:srgbClr val="000000"/>
              </a:solidFill>
              <a:latin typeface="Arial"/>
            </a:endParaRPr>
          </a:p>
          <a:p>
            <a:pPr indent="45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пециализированные последипломные профессиональные</a:t>
            </a:r>
            <a:endParaRPr b="0" lang="en-US" sz="1600" spc="-1" strike="noStrike">
              <a:solidFill>
                <a:srgbClr val="000000"/>
              </a:solidFill>
              <a:latin typeface="Arial"/>
            </a:endParaRPr>
          </a:p>
          <a:p>
            <a:pPr indent="45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разовательные программы ассистентуры-стажировки, обеспечивающие подготовку специалистов высшей квалификации творческого мастерства и педагогических кадров в области искусства (далее - программы ассистентуры-стажировки).</a:t>
            </a:r>
            <a:endParaRPr b="0" lang="en-US" sz="1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1444680"/>
            <a:ext cx="9144000" cy="301428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 Интегрированные образовательные программы в области искусства реализуются в профессиональных образовательных организациях, образовательных организациях высшего образования, реализующих профессиональные образовательные программы в области искусств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едпрофессиональные образовательные программы в области искусства реализуются в детских школах искусств, а также в профессиональных образовательных организациях </a:t>
            </a:r>
            <a:r>
              <a:rPr b="0" lang="ru-RU" sz="1600" spc="-1" strike="noStrike" u="sng">
                <a:solidFill>
                  <a:srgbClr val="002060"/>
                </a:solidFill>
                <a:uFillTx/>
                <a:latin typeface="Arial"/>
                <a:ea typeface="Times New Roman"/>
              </a:rPr>
              <a:t>и образовательных организациях высшего образования</a:t>
            </a:r>
            <a:r>
              <a:rPr b="0" lang="ru-RU" sz="1600" spc="-1" strike="noStrike" u="sng">
                <a:solidFill>
                  <a:srgbClr val="000000"/>
                </a:solidFill>
                <a:uFillTx/>
                <a:latin typeface="Arial"/>
                <a:ea typeface="Times New Roman"/>
              </a:rPr>
              <a:t>,</a:t>
            </a:r>
            <a:r>
              <a:rPr b="0" lang="ru-RU" sz="1600" spc="-1" strike="noStrike">
                <a:solidFill>
                  <a:srgbClr val="000000"/>
                </a:solidFill>
                <a:latin typeface="Arial"/>
                <a:ea typeface="Times New Roman"/>
              </a:rPr>
              <a:t> реализующих образовательные программы в области искусств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0" y="744480"/>
            <a:ext cx="9144000" cy="544788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f497d"/>
                </a:solidFill>
                <a:latin typeface="Arial"/>
                <a:ea typeface="Times New Roman"/>
              </a:rPr>
              <a:t>6. При реализации образовательных программ в области искусства перечень показателей и критерии оценки эффективности деятельности образовательных организаций в части обеспечения высокого уровня образовательного процесса устанавливаются федеральным органом исполнительной власти, осуществляющим функции по выработке государственной политики и нормативно-правовому регулированию в сфере образования по согласованию с федеральным органом исполнительной власти, осуществляющим функции по выработке государственной политики и нормативно-правовому регулированию в сфере культу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f497d"/>
                </a:solidFill>
                <a:latin typeface="Arial"/>
                <a:ea typeface="Times New Roman"/>
              </a:rPr>
              <a:t>Образовательная организация, реализующая образовательные программы в области искусства, кроме предусмотренных настоящим Федеральным законом видов деятельности, осуществляет художественно-творческую деятельность за счет средств соответствующих бюджетов бюджетной системы Российской Федерации, грантов или иных источников финансирования. Оценка художественно-творческой деятельности и ее взаимосвязи с образовательным процессом федеральных образовательных организаций осуществляется федеральным органом исполнительной власти, осуществляющим функции по выработке государственной политики и нормативно-правовому регулированию в сфере культуры, а также при государственной аккредитации образовательной организации. Результаты оценки художественно-творческой деятельности образовательных организаций составляют часть общей оценки деятельности образовательной организации при ее государственной аккредитации, а для образовательной организации высшего образования одним из оснований для установления (подтверждения) вида образовательной организации высшего образования.</a:t>
            </a:r>
            <a:endParaRPr b="0" lang="en-US" sz="16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0" y="1938240"/>
            <a:ext cx="9144000" cy="179748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7. При реализации образовательных программ в области искусства в образовательном процессе используются учебники, учебно-методические пособия, хрестоматии и нотные издания, определенные локальными актами образовательной организации с учетом рекомендаций федерального органа исполнительной власти, осуществляющим функции по выработке государственной политики и нормативно-правовому регулированию в сфере культуры. Финансирование расходов на такие учебники, учебно-методические пособия, хрестоматии и нотные издания осуществляется учредителем образовательной организации.</a:t>
            </a:r>
            <a:endParaRPr b="0" lang="en-US" sz="1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0" y="1587600"/>
            <a:ext cx="9144000" cy="301428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8. При реализации предпрофессиональных образовательных программ в области искусства в государственных и муниципальных образовательных организациях могут быть предусмотрены целевые взносы родителей (законных представителей) обучающихся, размер которых в совокупности не может превышать 15 процентов затрат на обучение ребенка в соответствующей образовательной организации, установленных соответствующим нормативом финансового обеспечения указанных образовательных программ, а в отношении родителей, имеющих трёх и более несовершеннолетних детей, - 10 процентов указанных затра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личие целевых взносов не влечет за собой снижения размеров финансового обеспечения образовательной организации из соответствующего бюдже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Целевые взносы не взимаются при обучении детей с ограниченными возможностями здоровья.</a:t>
            </a:r>
            <a:endParaRPr b="0" lang="en-US" sz="1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1939320"/>
            <a:ext cx="9144000" cy="2040840"/>
          </a:xfrm>
          <a:prstGeom prst="rect">
            <a:avLst/>
          </a:prstGeom>
          <a:solidFill>
            <a:srgbClr val="fdeada"/>
          </a:soli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9. Образовательная организация выдаёт выпускникам, освоившим предпрофессиональные образовательные программы в области искусства в полном объеме и прошедшим итоговую аттестацию, свидетельство установленного образца об освоении соответствующих образовательных программ, заверенное печатью образовательной организации. Лицу, не завершившему освоение указанных образовательных программ, не прошедшему итоговую аттестацию или получившему на итоговой аттестации неудовлетворительные результаты, выдаётся справка установленного образца об обучении в образовательной организации.</a:t>
            </a:r>
            <a:endParaRPr b="0" lang="en-US" sz="16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8:48:43Z</dcterms:created>
  <dc:creator>nachpravo</dc:creator>
  <dc:description/>
  <dc:language>en-US</dc:language>
  <cp:lastModifiedBy>nachpravo</cp:lastModifiedBy>
  <dcterms:modified xsi:type="dcterms:W3CDTF">2010-10-12T09:56:38Z</dcterms:modified>
  <cp:revision>32</cp:revision>
  <dc:subject/>
  <dc:title>Проект  Федерального закона  «Об образовании в Российской Федерации» статья 161</dc:title>
</cp:coreProperties>
</file>