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818-5792-4464-A5CC-CF3CE3C2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532-2D90-4863-9A29-0897A6DE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957-7E81-4649-BB60-19BA36BB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D7A-AAB5-46A4-B0D8-54A4033B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DDE3-DD46-42CA-AA0C-9BCDC410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0168-54DC-4992-B8D2-A2D30F2B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6691-D62A-4792-A429-BC4124F4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4EBC-4601-47F2-ADD8-C327DECF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4A3E-8838-4E16-9054-9185CBC6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600A-576E-4E48-8108-4FA00027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5FAA-4B93-414F-8FC5-5EB1EB4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2C7-D2E8-4B29-BA70-B8EFC47B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94BC-99CE-4794-9011-B4F8213A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7389-4E97-489D-9C0C-9CFC6D83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C57C-29FD-400A-9EAE-72BB7374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C158-2FBD-4308-8D0F-780A49CB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97F6-1E14-4AF4-94B4-8F430030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3FA-A240-4885-84FF-3E2272F5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B29-4132-4D3B-8CB3-2DEDEB1C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B82-1E18-403D-9B78-15036E8C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1BB-7579-43CB-94BB-4AE93D6A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064-6EE4-493B-80EB-68E7E537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4AF-735D-4D61-9F89-7DC30AD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F42-5558-4FD9-B1BA-FBAE5900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86F6-E271-46A0-9EAE-203399C4428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408-8FBA-471A-944E-172E09B9516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676440" y="853920"/>
            <a:ext cx="8003880" cy="4364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79280" y="260280"/>
          <a:ext cx="8713800" cy="6264000"/>
        </p:xfrm>
        <a:graphic>
          <a:graphicData uri="http://schemas.openxmlformats.org/drawingml/2006/table">
            <a:tbl>
              <a:tblPr/>
              <a:tblGrid>
                <a:gridCol w="2089080"/>
                <a:gridCol w="3240360"/>
                <a:gridCol w="3384360"/>
              </a:tblGrid>
              <a:tr h="176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449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ость руководителя при совершении крупных сде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Руководитель бюджетного учреждения нес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перед бюджетным учреждением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ответственност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в размере убытков, причиненных бюджетному учреждению в результате совершения крупной сделки с нарушением требовани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независимо от того, была ли эта сделка признана недействитель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Руководитель автономного учрежд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нес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перед автономным учреждением</a:t>
                      </a:r>
                      <a:r>
                        <a:rPr b="0" lang="en-US" sz="1400" spc="-1" strike="noStrike" u="sng">
                          <a:solidFill>
                            <a:srgbClr val="410082"/>
                          </a:solidFill>
                          <a:uFillTx/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ответственност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размере убытков, причиненных автономному учреждению в результате совершения крупной сделки с нарушением требований, независимо от того, была ли эта сделка признана недействитель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189000"/>
          <a:ext cx="8785080" cy="6421320"/>
        </p:xfrm>
        <a:graphic>
          <a:graphicData uri="http://schemas.openxmlformats.org/drawingml/2006/table">
            <a:tbl>
              <a:tblPr/>
              <a:tblGrid>
                <a:gridCol w="1763640"/>
                <a:gridCol w="3392280"/>
                <a:gridCol w="362916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394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носящая доход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праве осуществлят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приносящую доходы деятельность лишь постольку, поскольку это служит достижению целей, ради которых оно создано, и соответствующую этим целям, при условии, что такая деятельность указана в его учредительных документах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ходы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полученные от такой деятельности, и приобретенное за счет этих доходов имуществ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тупают в самостоятельное распоряжение бюджетного учрежд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праве осуществлят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приносящую доходы деятельность лишь постольку, поскольку это служит достижению целей, ради которых оно создано, и соответствующую этим целям, при условии, что такая деятельность указана в его учредительных документах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ход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полученные от такой деятельности, и приобретенное за счет этих доходов имуществ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тупают в самостоятельное распоряжение автономного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27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становление цен на 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основным видам деятельности – в порядке, установленном учредител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иным - самостоятель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0"/>
          <a:ext cx="8713800" cy="6381720"/>
        </p:xfrm>
        <a:graphic>
          <a:graphicData uri="http://schemas.openxmlformats.org/drawingml/2006/table">
            <a:tbl>
              <a:tblPr/>
              <a:tblGrid>
                <a:gridCol w="1954080"/>
                <a:gridCol w="3159000"/>
                <a:gridCol w="3600720"/>
              </a:tblGrid>
              <a:tr h="17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466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уществление иных видов деятельности (кроме прямо указанных в устав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праве осуществлят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иные виды деятельности, не являющиеся основными видами деятельности, лишь постольку, поскольку это служит достижению целей, ради которых оно создано, и соответствующие указанным целям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 условии, что такая деятельность указана в его учредительных документа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праве осуществлят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иные виды деятельности лишь постольку, поскольку это служит достижению целей, ради которых оно создано, и соответствующую этим целям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 условии, что такая деятельность указана в его учредительных документах (устав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189000"/>
          <a:ext cx="8713800" cy="6264360"/>
        </p:xfrm>
        <a:graphic>
          <a:graphicData uri="http://schemas.openxmlformats.org/drawingml/2006/table">
            <a:tbl>
              <a:tblPr/>
              <a:tblGrid>
                <a:gridCol w="1818000"/>
                <a:gridCol w="3295080"/>
                <a:gridCol w="3600720"/>
              </a:tblGrid>
              <a:tr h="176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449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ое обеспечение имущества, сданного в арен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 осуществля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счет собственных средств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 осуществля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счет собственных средств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79280" y="260280"/>
          <a:ext cx="8713440" cy="6264000"/>
        </p:xfrm>
        <a:graphic>
          <a:graphicData uri="http://schemas.openxmlformats.org/drawingml/2006/table">
            <a:tbl>
              <a:tblPr/>
              <a:tblGrid>
                <a:gridCol w="1331280"/>
                <a:gridCol w="3781800"/>
                <a:gridCol w="360036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48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крытие сч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органах федерального казначейства (финансовых органа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исполняющих бюдж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чета в кредитных организация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евые счета соответственно в территориальных   органах Федерального  казначейства,  финансовых  органах  субъектов    Российской Федерации, муниципальных образова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Учредите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автономных учреждений, созданных на базе имущества, находящегося в собственности субъекта Российской Федерации (муниципальной собственности), 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праве  заключать  соглашения  об  открытии   автономным учреждениям, находящимся в их ведении, лицевых счетов в   территориаль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органах Федерального казначей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260280"/>
          <a:ext cx="8713800" cy="6386760"/>
        </p:xfrm>
        <a:graphic>
          <a:graphicData uri="http://schemas.openxmlformats.org/drawingml/2006/table">
            <a:tbl>
              <a:tblPr/>
              <a:tblGrid>
                <a:gridCol w="1584360"/>
                <a:gridCol w="3459240"/>
                <a:gridCol w="3670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298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ение задания учреди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вправе отказаться от выполнения государственного (муниципального) зада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меньшение объема субсидии, предоставленной на выполнение государственного (муниципального) задания, в течение срока его выполнения осуществляется только при соответствующем изменении государственного (муниципального) 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 вправе отказаться от выполнения государственного (муниципального) зада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меньшение объема субсидии, предоставленной на выполнение государственного (муниципального) задания, в течение срока его выполнения осуществляется только при соответствующем изменении государственного (муниципального) 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44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чет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язательность публикации отчетов о деятельности и использовании имущ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189000"/>
          <a:ext cx="8964720" cy="6408720"/>
        </p:xfrm>
        <a:graphic>
          <a:graphicData uri="http://schemas.openxmlformats.org/drawingml/2006/table">
            <a:tbl>
              <a:tblPr/>
              <a:tblGrid>
                <a:gridCol w="1370160"/>
                <a:gridCol w="3890880"/>
                <a:gridCol w="3703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559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стие в некоммер- ческих организа-циях и хозяйс-твенных обществ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праве с согласия собственник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передавать некоммерческим организациям в качестве их учредителя или участника денежные средства и иное имущество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 исключением особо ценного движимого имущества, а также недвижимого имуще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праве вносить имущество, указанное в абзаце первом настоящего пункта, в уставный (складочный) капитал хозяйственных обществ или иным образом передавать им это имущество в качестве их учредителя или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праве с согласия учредител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вносить недвижимое имущество, закрепленное за автономным учреждением или приобретенное автономным учреждением за счет средств, выделенных ему учредителем на приобретение этого имущества, а также находящееся у автономного учреждения особо ценное движимое имущество в уставный (складочный) капитал других юридических лиц или иным образом передавать это имущество другим юридическим лицам в качестве их учредителя или участника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 исключением объектов культурного наследия народов Российской Федерации, предметов и документов, входящих в состав Музейного фонда Российской Федерации, Архивного фонда Российской Федерации, национального библиотечного фонд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ое имущество – без согласия учредител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0"/>
          <a:ext cx="8713800" cy="6597360"/>
        </p:xfrm>
        <a:graphic>
          <a:graphicData uri="http://schemas.openxmlformats.org/drawingml/2006/table">
            <a:tbl>
              <a:tblPr/>
              <a:tblGrid>
                <a:gridCol w="1747800"/>
                <a:gridCol w="4084920"/>
                <a:gridCol w="2881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51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удовой договор с руководителем учре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рган государственной  власти   (государственный орган),  орган  местного  самоуправления,  осуществляющий       функции и полномочия учредителя бюджетного учреждения,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  заключении   трудового договора с руководителем бюджетного учреждения предусматривает в нем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) права и обязанности руководител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)  показатели  оценки  эффективности   и       результативности его деятельност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) условия оплаты труда руководител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) срок действия трудового договора,  если  такой  срок   установлен учредительными документами бюджетного учрежден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)  условие  о  расторжении  трудового  договора   при наличии у бюджетного учреждения просроченной кредиторской задолженности, превышающей  предельно  допустимые  значения,  установленные     учредителе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 общим положениям Трудового кодек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ководитель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ательный совет (представители органов власти не более 1/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6" name="Содержимое 3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8601120" cy="4718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ая соединительная линия 3"/>
          <p:cNvSpPr/>
          <p:nvPr/>
        </p:nvSpPr>
        <p:spPr>
          <a:xfrm>
            <a:off x="4560840" y="3049560"/>
            <a:ext cx="2881440" cy="758880"/>
          </a:xfrm>
          <a:prstGeom prst="pie">
            <a:avLst/>
          </a:prstGeom>
          <a:noFill/>
          <a:ln w="25560">
            <a:solidFill>
              <a:srgbClr val="6585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ая соединительная линия 4"/>
          <p:cNvSpPr/>
          <p:nvPr/>
        </p:nvSpPr>
        <p:spPr>
          <a:xfrm>
            <a:off x="4514760" y="3049560"/>
            <a:ext cx="92160" cy="758880"/>
          </a:xfrm>
          <a:prstGeom prst="pie">
            <a:avLst/>
          </a:prstGeom>
          <a:noFill/>
          <a:ln w="25560">
            <a:solidFill>
              <a:srgbClr val="6585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ая соединительная линия 5"/>
          <p:cNvSpPr/>
          <p:nvPr/>
        </p:nvSpPr>
        <p:spPr>
          <a:xfrm>
            <a:off x="1701720" y="3049560"/>
            <a:ext cx="2859120" cy="758880"/>
          </a:xfrm>
          <a:prstGeom prst="pie">
            <a:avLst/>
          </a:prstGeom>
          <a:noFill/>
          <a:ln w="25560">
            <a:solidFill>
              <a:srgbClr val="6585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Группа 29"/>
          <p:cNvGrpSpPr/>
          <p:nvPr/>
        </p:nvGrpSpPr>
        <p:grpSpPr>
          <a:xfrm>
            <a:off x="2057400" y="1862280"/>
            <a:ext cx="5006880" cy="1187280"/>
            <a:chOff x="2057400" y="1862280"/>
            <a:chExt cx="5006880" cy="1187280"/>
          </a:xfrm>
        </p:grpSpPr>
        <p:sp>
          <p:nvSpPr>
            <p:cNvPr id="88" name="Прямоугольник 39"/>
            <p:cNvSpPr/>
            <p:nvPr/>
          </p:nvSpPr>
          <p:spPr>
            <a:xfrm>
              <a:off x="2057400" y="1862280"/>
              <a:ext cx="5006880" cy="1187280"/>
            </a:xfrm>
            <a:prstGeom prst="rect">
              <a:avLst/>
            </a:prstGeom>
            <a:solidFill>
              <a:srgbClr val="9cb08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рямоугольник 40"/>
            <p:cNvSpPr/>
            <p:nvPr/>
          </p:nvSpPr>
          <p:spPr>
            <a:xfrm>
              <a:off x="2057400" y="1862280"/>
              <a:ext cx="50068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Государственные (муниципальные) учреж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Группа 30"/>
          <p:cNvGrpSpPr/>
          <p:nvPr/>
        </p:nvGrpSpPr>
        <p:grpSpPr>
          <a:xfrm>
            <a:off x="514440" y="3808440"/>
            <a:ext cx="2373120" cy="1187280"/>
            <a:chOff x="514440" y="3808440"/>
            <a:chExt cx="2373120" cy="1187280"/>
          </a:xfrm>
        </p:grpSpPr>
        <p:sp>
          <p:nvSpPr>
            <p:cNvPr id="91" name="Прямоугольник 37"/>
            <p:cNvSpPr/>
            <p:nvPr/>
          </p:nvSpPr>
          <p:spPr>
            <a:xfrm>
              <a:off x="514440" y="3808440"/>
              <a:ext cx="2373120" cy="1187280"/>
            </a:xfrm>
            <a:prstGeom prst="rect">
              <a:avLst/>
            </a:prstGeom>
            <a:solidFill>
              <a:srgbClr val="6585c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38"/>
            <p:cNvSpPr/>
            <p:nvPr/>
          </p:nvSpPr>
          <p:spPr>
            <a:xfrm>
              <a:off x="514440" y="3808440"/>
              <a:ext cx="237312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Бюджетные учреж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Группа 31"/>
          <p:cNvGrpSpPr/>
          <p:nvPr/>
        </p:nvGrpSpPr>
        <p:grpSpPr>
          <a:xfrm>
            <a:off x="3386160" y="3808440"/>
            <a:ext cx="2371680" cy="1187280"/>
            <a:chOff x="3386160" y="3808440"/>
            <a:chExt cx="2371680" cy="1187280"/>
          </a:xfrm>
        </p:grpSpPr>
        <p:sp>
          <p:nvSpPr>
            <p:cNvPr id="94" name="Прямоугольник 35"/>
            <p:cNvSpPr/>
            <p:nvPr/>
          </p:nvSpPr>
          <p:spPr>
            <a:xfrm>
              <a:off x="3386160" y="3808440"/>
              <a:ext cx="2371680" cy="1187280"/>
            </a:xfrm>
            <a:prstGeom prst="rect">
              <a:avLst/>
            </a:prstGeom>
            <a:solidFill>
              <a:srgbClr val="6585c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Прямоугольник 36"/>
            <p:cNvSpPr/>
            <p:nvPr/>
          </p:nvSpPr>
          <p:spPr>
            <a:xfrm>
              <a:off x="3386160" y="3808440"/>
              <a:ext cx="23716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Казенные учреж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Группа 32"/>
          <p:cNvGrpSpPr/>
          <p:nvPr/>
        </p:nvGrpSpPr>
        <p:grpSpPr>
          <a:xfrm>
            <a:off x="6256440" y="3808440"/>
            <a:ext cx="2373120" cy="1187280"/>
            <a:chOff x="6256440" y="3808440"/>
            <a:chExt cx="2373120" cy="1187280"/>
          </a:xfrm>
        </p:grpSpPr>
        <p:sp>
          <p:nvSpPr>
            <p:cNvPr id="97" name="Прямоугольник 33"/>
            <p:cNvSpPr/>
            <p:nvPr/>
          </p:nvSpPr>
          <p:spPr>
            <a:xfrm>
              <a:off x="6256440" y="3808440"/>
              <a:ext cx="2373120" cy="1187280"/>
            </a:xfrm>
            <a:prstGeom prst="rect">
              <a:avLst/>
            </a:prstGeom>
            <a:solidFill>
              <a:srgbClr val="6585c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Прямоугольник 34"/>
            <p:cNvSpPr/>
            <p:nvPr/>
          </p:nvSpPr>
          <p:spPr>
            <a:xfrm>
              <a:off x="6256440" y="3808440"/>
              <a:ext cx="237312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Автономные учреж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-152280"/>
            <a:ext cx="8242560" cy="1962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ая соединительная линия 3"/>
          <p:cNvSpPr/>
          <p:nvPr/>
        </p:nvSpPr>
        <p:spPr>
          <a:xfrm>
            <a:off x="4560840" y="3049560"/>
            <a:ext cx="2881440" cy="758880"/>
          </a:xfrm>
          <a:prstGeom prst="pie">
            <a:avLst/>
          </a:prstGeom>
          <a:noFill/>
          <a:ln w="25560">
            <a:solidFill>
              <a:srgbClr val="6585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5"/>
          <p:cNvSpPr/>
          <p:nvPr/>
        </p:nvSpPr>
        <p:spPr>
          <a:xfrm>
            <a:off x="1701720" y="3049560"/>
            <a:ext cx="2859120" cy="758880"/>
          </a:xfrm>
          <a:prstGeom prst="pie">
            <a:avLst/>
          </a:prstGeom>
          <a:noFill/>
          <a:ln w="25560">
            <a:solidFill>
              <a:srgbClr val="6585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Группа 29"/>
          <p:cNvGrpSpPr/>
          <p:nvPr/>
        </p:nvGrpSpPr>
        <p:grpSpPr>
          <a:xfrm>
            <a:off x="2057400" y="1862280"/>
            <a:ext cx="5006880" cy="1187280"/>
            <a:chOff x="2057400" y="1862280"/>
            <a:chExt cx="5006880" cy="1187280"/>
          </a:xfrm>
        </p:grpSpPr>
        <p:sp>
          <p:nvSpPr>
            <p:cNvPr id="103" name="Прямоугольник 39"/>
            <p:cNvSpPr/>
            <p:nvPr/>
          </p:nvSpPr>
          <p:spPr>
            <a:xfrm>
              <a:off x="2057400" y="1862280"/>
              <a:ext cx="5006880" cy="1187280"/>
            </a:xfrm>
            <a:prstGeom prst="rect">
              <a:avLst/>
            </a:prstGeom>
            <a:solidFill>
              <a:srgbClr val="9cb08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Прямоугольник 40"/>
            <p:cNvSpPr/>
            <p:nvPr/>
          </p:nvSpPr>
          <p:spPr>
            <a:xfrm>
              <a:off x="2057400" y="1862280"/>
              <a:ext cx="50068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Государственные (муниципальные) учреж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Группа 30"/>
          <p:cNvGrpSpPr/>
          <p:nvPr/>
        </p:nvGrpSpPr>
        <p:grpSpPr>
          <a:xfrm>
            <a:off x="514440" y="3808440"/>
            <a:ext cx="2373120" cy="1187280"/>
            <a:chOff x="514440" y="3808440"/>
            <a:chExt cx="2373120" cy="1187280"/>
          </a:xfrm>
        </p:grpSpPr>
        <p:sp>
          <p:nvSpPr>
            <p:cNvPr id="106" name="Прямоугольник 37"/>
            <p:cNvSpPr/>
            <p:nvPr/>
          </p:nvSpPr>
          <p:spPr>
            <a:xfrm>
              <a:off x="514440" y="3808440"/>
              <a:ext cx="2373120" cy="1187280"/>
            </a:xfrm>
            <a:prstGeom prst="rect">
              <a:avLst/>
            </a:prstGeom>
            <a:solidFill>
              <a:srgbClr val="6585c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Прямоугольник 38"/>
            <p:cNvSpPr/>
            <p:nvPr/>
          </p:nvSpPr>
          <p:spPr>
            <a:xfrm>
              <a:off x="514440" y="3808440"/>
              <a:ext cx="237312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Бюджетные учреж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Группа 32"/>
          <p:cNvGrpSpPr/>
          <p:nvPr/>
        </p:nvGrpSpPr>
        <p:grpSpPr>
          <a:xfrm>
            <a:off x="6256440" y="3808440"/>
            <a:ext cx="2373120" cy="1187280"/>
            <a:chOff x="6256440" y="3808440"/>
            <a:chExt cx="2373120" cy="1187280"/>
          </a:xfrm>
        </p:grpSpPr>
        <p:sp>
          <p:nvSpPr>
            <p:cNvPr id="109" name="Прямоугольник 33"/>
            <p:cNvSpPr/>
            <p:nvPr/>
          </p:nvSpPr>
          <p:spPr>
            <a:xfrm>
              <a:off x="6256440" y="3808440"/>
              <a:ext cx="2373120" cy="1187280"/>
            </a:xfrm>
            <a:prstGeom prst="rect">
              <a:avLst/>
            </a:prstGeom>
            <a:solidFill>
              <a:srgbClr val="6585c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Прямоугольник 34"/>
            <p:cNvSpPr/>
            <p:nvPr/>
          </p:nvSpPr>
          <p:spPr>
            <a:xfrm>
              <a:off x="6256440" y="3808440"/>
              <a:ext cx="237312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Автономные учреж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551800" cy="5956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9280" y="189000"/>
          <a:ext cx="8785080" cy="6335280"/>
        </p:xfrm>
        <a:graphic>
          <a:graphicData uri="http://schemas.openxmlformats.org/drawingml/2006/table">
            <a:tbl>
              <a:tblPr/>
              <a:tblGrid>
                <a:gridCol w="1342080"/>
                <a:gridCol w="3812760"/>
                <a:gridCol w="3630240"/>
              </a:tblGrid>
              <a:tr h="178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454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я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коммерческая организац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созданная Российской Федерацией, субъектом Российской Федерации или муниципальным образованием для выполнения работ,  оказания услуг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 целях обеспечения реализации предусмотренных законодательством Российской Федерации полномочий соответственно органов государственной вла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государственных органов) или  органов местного самоуправления в сферах науки, образования, здравоохранения, культуры, социальной защиты, занятости населения, физической культуры и спорта, а также в иных сфер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коммерческая организац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созданная Российской Федерацией, субъектом Российской Федерации или муниципальным образованием для выполнения работ, оказания услуг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в целях осуществления предусмотренных законодательством Российской Федерации полномочий органов государственной власт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полномочий органов местного самоуправления в сферах науки, образования, здравоохранения, культуры, социальной защиты, занятости населения, физической культуры и спорта, а также в иных сферах в случаях, установленных федеральными закон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79280" y="0"/>
          <a:ext cx="8785440" cy="6524640"/>
        </p:xfrm>
        <a:graphic>
          <a:graphicData uri="http://schemas.openxmlformats.org/drawingml/2006/table">
            <a:tbl>
              <a:tblPr/>
              <a:tblGrid>
                <a:gridCol w="1486800"/>
                <a:gridCol w="3668400"/>
                <a:gridCol w="3630240"/>
              </a:tblGrid>
              <a:tr h="183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46854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овое обеспе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бсиди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в соответствии с заданием учредител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на содержание имущества (в том числе, на уплату налогов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на иные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едства бюджета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на исполнение публичных денежных обязательств перед физическими лицам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на осуществление мероприятий в соответствии с нормативными правовыми акта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бсиди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в соответствии с заданием учредител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 содержание имущества (в том числе, на уплату налогов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мероприятий, направленные на развитие автономных учреждений, перечень которых определяется учредител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на иные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79280" y="115920"/>
          <a:ext cx="8785080" cy="6408360"/>
        </p:xfrm>
        <a:graphic>
          <a:graphicData uri="http://schemas.openxmlformats.org/drawingml/2006/table">
            <a:tbl>
              <a:tblPr/>
              <a:tblGrid>
                <a:gridCol w="1342080"/>
                <a:gridCol w="3812760"/>
                <a:gridCol w="3630240"/>
              </a:tblGrid>
              <a:tr h="180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460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е 94-Ф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Распространяет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в полном объеме независимо от источника финанс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Не распространя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260280"/>
          <a:ext cx="9036000" cy="6408360"/>
        </p:xfrm>
        <a:graphic>
          <a:graphicData uri="http://schemas.openxmlformats.org/drawingml/2006/table">
            <a:tbl>
              <a:tblPr/>
              <a:tblGrid>
                <a:gridCol w="2125800"/>
                <a:gridCol w="3382920"/>
                <a:gridCol w="3527280"/>
              </a:tblGrid>
              <a:tr h="180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460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ость по обязательств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твечает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воим обязательствам всем  находящимся у него на праве оперативного управления имуществом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за исключением особо ценного движимого имущества, а также недвижимого имуществ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ик имущества бюджетного учреждения не несет ответственности по обязательствам бюджетного  учрежд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твечает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воим обязательствам имуществом, находящимся у него на праве оперативного управления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за исключением недвижимого имущества и особо ценного движимого имуще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ик имущества автономного учреждения не несет ответственность по обязательствам автономного учрежд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08000" y="189000"/>
          <a:ext cx="8856720" cy="6264000"/>
        </p:xfrm>
        <a:graphic>
          <a:graphicData uri="http://schemas.openxmlformats.org/drawingml/2006/table">
            <a:tbl>
              <a:tblPr/>
              <a:tblGrid>
                <a:gridCol w="1735200"/>
                <a:gridCol w="3151080"/>
                <a:gridCol w="3970440"/>
              </a:tblGrid>
              <a:tr h="91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бюджет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 w="28080">
                      <a:solidFill>
                        <a:srgbClr val="4f5e3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ое (муниципальное)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автономно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ре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5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атус иму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9cb08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ущество в оперативном управлени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мельные участки на праве постоянного (бессрочного) польз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 w="28080">
                      <a:solidFill>
                        <a:srgbClr val="4f5e3c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поряжение имуществ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4f5e3c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Без согласия собственника не вправе распоряжать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особо ценным движимым имуществом, а также недвижимы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мущество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    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альным имуществом, находящимся у него на праве оперативного управления, бюджетное учреждение вправе распоряжаться самостоятельно, если иное не установлено законом (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кроме размещения денежных средств на депозитах в кредитных организациях, совершения сделок с ценными бумагами, совершения крупных сделок.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4f5e3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Без согласия собственника не вправ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распоряжаться недвижимым имуществом и особо ценным движимым имуществ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тальным имуществом, находящимся у него на праве оперативного управления, автономное учреждение вправе распоряжаться самостоятельно, если иное не установлено закон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4f5e3c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8:23:09Z</dcterms:created>
  <dc:creator>nachpravo</dc:creator>
  <dc:description/>
  <dc:language>en-US</dc:language>
  <cp:lastModifiedBy>Елена</cp:lastModifiedBy>
  <dcterms:modified xsi:type="dcterms:W3CDTF">2010-05-12T18:11:26Z</dcterms:modified>
  <cp:revision>24</cp:revision>
  <dc:subject/>
  <dc:title>Слайд 1</dc:title>
</cp:coreProperties>
</file>